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amtasiaStudio_conten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3ce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9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29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29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29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29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mtasiaStudio_conten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CamtasiaStudio_titleandmain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3ce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9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29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29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29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29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39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2939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0000"/>
                </a:solidFill>
                <a:latin typeface="TAU-Marutham"/>
                <a:cs typeface="TAU-Marutham"/>
              </a:rPr>
              <a:t>தொன்மம்</a:t>
            </a:r>
            <a:endParaRPr b="0" lang="en-US" sz="3200" spc="-1" strike="noStrike">
              <a:solidFill>
                <a:srgbClr val="c3ce81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கடவுளர்கள்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, 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தேவர்கள் மக்கள்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, 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விலங்குகள் ஆகிய பல் வகை உயிரினங்களையும் </a:t>
            </a:r>
            <a:r>
              <a:rPr b="0" lang="en-IN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ஒருங்கிணைத்து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, 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படித்தால்  நம்ப முடியாதது போல் தோன்றுகின்ற செய்திகளையும் நிகழ்ச்சிகளையும் கொண்டு இயங்குகின்ற பழமையான கதைகளையே தொன்மம் என்று கூறுவர்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.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533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9395"/>
                </a:solidFill>
                <a:latin typeface="TAU-Marutham"/>
                <a:ea typeface="TAU-Marutham"/>
              </a:rPr>
              <a:t>  “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கிழித்த கோட்டைத் தாண்ட மாட்டான்” என்பது இராமாயணத்தில் பர்ணசாலையை விட்டு வந்தால் தீங்கு வரும் என்பதற்காகக் கோடு கிழித்த நிகழ்விலிருந்து உருவான மரபுத் தொடராகும்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. 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இதுபோல “இந்தா போறான் சகுனி”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, “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இவன் பெரிய அரிச்சந்திரன்”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, “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கர்ணன் தோற்றான்போ” என்றெல்லாம் தொடர்களைப் பயன்படுத்துகிறோம்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. 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685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U-Marutham"/>
                <a:ea typeface="TAU-Marutham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cs typeface="TAU-Marutham"/>
              </a:rPr>
              <a:t>தொன்மங்கள் மக்களின் மனத்திலும் பேச்சிலும் இடம்பெற்றிருப்பதால் அவற்றைப் பயன்படுத்திச் சில செய்திகளைச் சொல்ல முடியும்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ea typeface="TAU-Marutham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cs typeface="TAU-Marutham"/>
              </a:rPr>
              <a:t>விளங்காத கருத்துக்களை எளிதில் விளங்க வைக்கமுடியும்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ea typeface="TAU-Marutham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cs typeface="TAU-Marutham"/>
              </a:rPr>
              <a:t>ஆகவே தொன்மம் 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ea typeface="TAU-Marutham"/>
              </a:rPr>
              <a:t>(myth) 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cs typeface="TAU-Marutham"/>
              </a:rPr>
              <a:t>இலக்கிய உத்தியாகக் கொள்ளப்பட்டிருக்கிறது</a:t>
            </a:r>
            <a:r>
              <a:rPr b="0" lang="en-US" sz="2400" spc="-1" strike="noStrike">
                <a:solidFill>
                  <a:srgbClr val="ff0000"/>
                </a:solidFill>
                <a:latin typeface="TAU-Marutham"/>
                <a:ea typeface="TAU-Marutham"/>
              </a:rPr>
              <a:t>.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914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வெல்வேல் கவுரியர் தொன்முதுகோடி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முழங்கிரும் பௌவம் இரங்கும் முன்றுறை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வெல்போர் இராமன் அருமறைக் கவித்த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பல்வீழ் ஆலம் போல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ஒலியவிந் தன்றிவ் வழுங்கல் ஊரே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( 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அக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. 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நா</a:t>
            </a:r>
            <a:r>
              <a:rPr b="0" lang="en-US" sz="2800" spc="-1" strike="noStrike">
                <a:solidFill>
                  <a:srgbClr val="7030a0"/>
                </a:solidFill>
                <a:latin typeface="TAU-Marutham"/>
                <a:ea typeface="TAU-Marutham"/>
              </a:rPr>
              <a:t>, 70: 13-17 )</a:t>
            </a: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9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முரண்பட்டவை ஒன்று சேர்ந்திருக்கிற சூழல்கள் இருக்கின்றன</a:t>
            </a:r>
            <a:r>
              <a:rPr b="0" lang="en-US" sz="2400" spc="-1" strike="noStrike">
                <a:solidFill>
                  <a:srgbClr val="7030a0"/>
                </a:solidFill>
                <a:latin typeface="TAU-Marutham"/>
                <a:ea typeface="TAU-Marutham"/>
              </a:rPr>
              <a:t>. 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இதை அப்துல்ரகுமான்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உள்மனம் ஒரு பாற்கடல்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அதைக் கடைந்தால்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அமுதம் மட்டுமல்ல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ஆலகாலமும் வெளிப்படும் என்பதை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நீ அறிவாய் அல்லவா</a:t>
            </a:r>
            <a:r>
              <a:rPr b="1" lang="en-US" sz="2400" spc="-1" strike="noStrike">
                <a:solidFill>
                  <a:srgbClr val="7030a0"/>
                </a:solidFill>
                <a:latin typeface="TAU-Marutham"/>
                <a:ea typeface="TAU-Marutham"/>
              </a:rPr>
              <a:t>?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தமிழில் கண்ணகி கதை தொன்மை நோக்கிய வளர்ச்சி பெற்றுள்ளது</a:t>
            </a:r>
            <a:r>
              <a:rPr b="0" lang="en-US" sz="2400" spc="-1" strike="noStrike">
                <a:solidFill>
                  <a:srgbClr val="7030a0"/>
                </a:solidFill>
                <a:latin typeface="TAU-Marutham"/>
                <a:ea typeface="TAU-Marutham"/>
              </a:rPr>
              <a:t>. </a:t>
            </a:r>
            <a:r>
              <a:rPr b="0" lang="en-US" sz="24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புதுக்கவிதையில் கண்ணகி இக்காலப் பெண்ணியத்தின் குறியீடாகவும் சிலப்பதிகாரக் கதையில் மதுரை எரிந்த நிகழ்வுத் தொன்மத்தைப் பெண்ணிய போராட்டக் குறியீடாகவும் ஆளப்படுகின்றன</a:t>
            </a:r>
            <a:r>
              <a:rPr b="0" lang="en-US" sz="2400" spc="-1" strike="noStrike">
                <a:solidFill>
                  <a:srgbClr val="7030a0"/>
                </a:solidFill>
                <a:latin typeface="TAU-Marutham"/>
                <a:ea typeface="TAU-Marutham"/>
              </a:rPr>
              <a:t>.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AU-Marutham"/>
                <a:ea typeface="TAU-Marutham"/>
              </a:rPr>
              <a:t>	</a:t>
            </a:r>
            <a:endParaRPr b="0" lang="en-US" sz="24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மதுரை எரிக்க கண்ணகியாயும்</a:t>
            </a:r>
            <a:endParaRPr b="0" lang="en-US" sz="1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மீண்டும் எழுந்திடச் சீதையாயும் </a:t>
            </a:r>
            <a:endParaRPr b="0" lang="en-US" sz="1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எப்பவும் எரிதழல் மடிசுமப்பது இனி</a:t>
            </a:r>
            <a:endParaRPr b="0" lang="en-US" sz="1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U-Marutham"/>
                <a:cs typeface="TAU-Marutham"/>
              </a:rPr>
              <a:t>எங்கள் வேலையல்ல</a:t>
            </a:r>
            <a:endParaRPr b="0" lang="en-US" sz="1800" spc="-1" strike="noStrike">
              <a:solidFill>
                <a:srgbClr val="9293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9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51:58Z</dcterms:created>
  <dc:creator>r.eash</dc:creator>
  <dc:description/>
  <dc:language>en-US</dc:language>
  <cp:lastModifiedBy>Windows User</cp:lastModifiedBy>
  <dcterms:modified xsi:type="dcterms:W3CDTF">2019-06-12T00:29:25Z</dcterms:modified>
  <cp:revision>18</cp:revision>
  <dc:subject/>
  <dc:title>Slide 1</dc:title>
</cp:coreProperties>
</file>